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mural"/>
          <p:cNvPicPr/>
          <p:nvPr/>
        </p:nvPicPr>
        <p:blipFill>
          <a:blip r:embed="rId2">
            <a:lum contrast="6000"/>
          </a:blip>
          <a:srcRect l="3128" t="0" r="69794" b="0"/>
          <a:stretch/>
        </p:blipFill>
        <p:spPr>
          <a:xfrm>
            <a:off x="0" y="0"/>
            <a:ext cx="1371600" cy="6850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mural"/>
          <p:cNvPicPr/>
          <p:nvPr/>
        </p:nvPicPr>
        <p:blipFill>
          <a:blip r:embed="rId3">
            <a:lum contrast="6000"/>
          </a:blip>
          <a:srcRect l="69794" t="0" r="3128" b="0"/>
          <a:stretch/>
        </p:blipFill>
        <p:spPr>
          <a:xfrm>
            <a:off x="7848720" y="0"/>
            <a:ext cx="1295280" cy="685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qed.org/tv/specials/the-war-that-made-america/downloads/m317d1.jpg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WordArt 13"/>
          <p:cNvSpPr txBox="1"/>
          <p:nvPr/>
        </p:nvSpPr>
        <p:spPr>
          <a:xfrm>
            <a:off x="1752480" y="609480"/>
            <a:ext cx="56390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The French &amp; Indian War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(1756  to 1763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39" name="WordArt 14"/>
          <p:cNvSpPr txBox="1"/>
          <p:nvPr/>
        </p:nvSpPr>
        <p:spPr>
          <a:xfrm>
            <a:off x="2057400" y="3467160"/>
            <a:ext cx="51814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99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“</a:t>
            </a:r>
            <a:r>
              <a:rPr b="0" lang="en-US" sz="1800" spc="1" strike="noStrike">
                <a:ln w="19080">
                  <a:solidFill>
                    <a:srgbClr val="003399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The Great War for Empire”</a:t>
            </a:r>
            <a:endParaRPr b="0" lang="en-US" sz="1800" spc="1" strike="noStrike">
              <a:ln w="19080">
                <a:solidFill>
                  <a:srgbClr val="003399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Duqu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705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 land speculators had bought lan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hio Valley in 17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t a fort there to protect 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nch drove them off the 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finished building the 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d it Fort Duques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ks of the Ohio, Monongahela, and Allegheny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qed.org/tv/specials/the-war-that-made-america/downloads/m317d1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175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or Robert Dinwiddie (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or George  Washing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t to the upper Ohio Vall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warn the French to le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hington returns with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nch are well establishe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d to expand thei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752480" y="519120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181480" y="519120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048120" y="5419800"/>
            <a:ext cx="68580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H="1">
            <a:off x="4571640" y="5419800"/>
            <a:ext cx="68580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NuclearExplosion"/>
          <p:cNvPicPr/>
          <p:nvPr/>
        </p:nvPicPr>
        <p:blipFill>
          <a:blip r:embed="rId1"/>
          <a:stretch/>
        </p:blipFill>
        <p:spPr>
          <a:xfrm>
            <a:off x="3838680" y="5038560"/>
            <a:ext cx="733320" cy="828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2"/>
          <p:cNvSpPr/>
          <p:nvPr/>
        </p:nvSpPr>
        <p:spPr>
          <a:xfrm>
            <a:off x="1523880" y="5791320"/>
            <a:ext cx="6858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umonville G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rt Neces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OhioRiverValley-1753"/>
          <p:cNvPicPr/>
          <p:nvPr/>
        </p:nvPicPr>
        <p:blipFill>
          <a:blip r:embed="rId2"/>
          <a:stretch/>
        </p:blipFill>
        <p:spPr>
          <a:xfrm>
            <a:off x="4402080" y="1219320"/>
            <a:ext cx="268452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Text Box 15"/>
          <p:cNvSpPr/>
          <p:nvPr/>
        </p:nvSpPr>
        <p:spPr>
          <a:xfrm>
            <a:off x="1371600" y="2286000"/>
            <a:ext cx="2819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hio Va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>
            <a:off x="3809880" y="2819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1676520" y="228600"/>
            <a:ext cx="601956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54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The First Cla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e beginn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655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hase – 1754-17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a North American conflict that English colonists managed on their own with little assistance from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55 – Britain sends General Edward Bradd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sh leader, condescending towards colonial milit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traditional European fighting, not prepared for colonial figh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s miserably to take the crucial site at the forks of the Ohio River where Washington had lost Fort neces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phase of war – French definitely had the adva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nch took  British  Fort Oswego in 1756 – more Native Americans allied with Fr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French took Fort William Henry - 17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1371600" y="441972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tive American tribe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oited both sid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600200" y="2743200"/>
            <a:ext cx="1905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ord </a:t>
            </a:r>
            <a:br>
              <a:rPr sz="2600"/>
            </a:b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oudo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181480" y="2828880"/>
            <a:ext cx="26672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Marquis 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de Montcal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3352680" y="3114720"/>
            <a:ext cx="45720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5181480" y="3123360"/>
            <a:ext cx="533520" cy="9720"/>
          </a:xfrm>
          <a:prstGeom prst="line">
            <a:avLst/>
          </a:prstGeom>
          <a:ln w="28440">
            <a:solidFill>
              <a:srgbClr val="00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NuclearExplosion"/>
          <p:cNvPicPr/>
          <p:nvPr/>
        </p:nvPicPr>
        <p:blipFill>
          <a:blip r:embed="rId1"/>
          <a:stretch/>
        </p:blipFill>
        <p:spPr>
          <a:xfrm>
            <a:off x="3962520" y="2514600"/>
            <a:ext cx="1079280" cy="12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7"/>
          <p:cNvSpPr/>
          <p:nvPr/>
        </p:nvSpPr>
        <p:spPr>
          <a:xfrm>
            <a:off x="1447920" y="228600"/>
            <a:ext cx="6324480" cy="19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56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International Conflict - 2</a:t>
            </a:r>
            <a:r>
              <a:rPr b="1" lang="en-US" sz="4000" spc="-1" strike="noStrike" baseline="30000">
                <a:solidFill>
                  <a:srgbClr val="cc0000"/>
                </a:solidFill>
                <a:latin typeface="Rockwell"/>
              </a:rPr>
              <a:t>nd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Phase begi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638680" y="1752480"/>
          <a:ext cx="1600200" cy="76212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765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</a:rPr>
                        <a:t>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32"/>
          <p:cNvSpPr/>
          <p:nvPr/>
        </p:nvSpPr>
        <p:spPr>
          <a:xfrm>
            <a:off x="5257800" y="228600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arch in formation or 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bayonet char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3"/>
          <p:cNvSpPr/>
          <p:nvPr/>
        </p:nvSpPr>
        <p:spPr>
          <a:xfrm>
            <a:off x="5257800" y="2971800"/>
            <a:ext cx="3048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r. officers wanted to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take charge of coloni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5257800" y="5257800"/>
            <a:ext cx="2438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rima Donna Br. 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officers with servants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&amp; tea settin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5257800" y="3733920"/>
            <a:ext cx="297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rills &amp; tough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discip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6"/>
          <p:cNvSpPr/>
          <p:nvPr/>
        </p:nvSpPr>
        <p:spPr>
          <a:xfrm>
            <a:off x="5257800" y="4495680"/>
            <a:ext cx="297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olonists should pay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for their own defen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7"/>
          <p:cNvSpPr/>
          <p:nvPr/>
        </p:nvSpPr>
        <p:spPr>
          <a:xfrm>
            <a:off x="2819520" y="2286000"/>
            <a:ext cx="289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ndian-style guerilla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tac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8"/>
          <p:cNvSpPr/>
          <p:nvPr/>
        </p:nvSpPr>
        <p:spPr>
          <a:xfrm>
            <a:off x="2819520" y="297180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ol. militias served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under own capta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2819520" y="373392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o mil. deference or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protocols ob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0"/>
          <p:cNvSpPr/>
          <p:nvPr/>
        </p:nvSpPr>
        <p:spPr>
          <a:xfrm>
            <a:off x="2819520" y="449568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Resistance to rising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tax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819520" y="525780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asual, 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non-profession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2"/>
          <p:cNvSpPr/>
          <p:nvPr/>
        </p:nvSpPr>
        <p:spPr>
          <a:xfrm>
            <a:off x="1371600" y="2286000"/>
            <a:ext cx="152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hods o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ht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3"/>
          <p:cNvSpPr/>
          <p:nvPr/>
        </p:nvSpPr>
        <p:spPr>
          <a:xfrm>
            <a:off x="1371600" y="297180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itar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4"/>
          <p:cNvSpPr/>
          <p:nvPr/>
        </p:nvSpPr>
        <p:spPr>
          <a:xfrm>
            <a:off x="1371600" y="3733920"/>
            <a:ext cx="152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itar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ipl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5"/>
          <p:cNvSpPr/>
          <p:nvPr/>
        </p:nvSpPr>
        <p:spPr>
          <a:xfrm>
            <a:off x="1371600" y="449568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6"/>
          <p:cNvSpPr/>
          <p:nvPr/>
        </p:nvSpPr>
        <p:spPr>
          <a:xfrm>
            <a:off x="1371600" y="525780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ean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British-American Colonial T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90920" y="1752480"/>
          <a:ext cx="3047760" cy="69552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6984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Colon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523880" y="205740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understood colonial conc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523880" y="2743200"/>
            <a:ext cx="624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improved war efforts in Ame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523880" y="3352680"/>
            <a:ext cx="624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ent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523880" y="3962520"/>
            <a:ext cx="624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nt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523880" y="4572000"/>
            <a:ext cx="57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RESULTS?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olonial mora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increased by 175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1295280" y="228600"/>
            <a:ext cx="67057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1757 </a:t>
            </a:r>
            <a:r>
              <a:rPr b="1" lang="en-US" sz="3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 William Pitt Becomes Foreign Minis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1143000" y="6278400"/>
            <a:ext cx="70866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*</a:t>
            </a:r>
            <a:r>
              <a:rPr b="1" lang="en-US" sz="2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y 1761, Sp. has become an ally of F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Fr&amp;IndWar-EurInflue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057400" y="1066680"/>
            <a:ext cx="5334120" cy="51818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07" name="Text Box 11"/>
          <p:cNvSpPr/>
          <p:nvPr/>
        </p:nvSpPr>
        <p:spPr>
          <a:xfrm>
            <a:off x="1447920" y="0"/>
            <a:ext cx="632448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3</a:t>
            </a:r>
            <a:r>
              <a:rPr b="1" lang="en-US" sz="3800" spc="-1" strike="noStrike" baseline="30000">
                <a:solidFill>
                  <a:srgbClr val="cc0000"/>
                </a:solidFill>
                <a:latin typeface="Rockwell"/>
              </a:rPr>
              <a:t>rd</a:t>
            </a: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 Phase begins - 1758-1761 </a:t>
            </a:r>
            <a:r>
              <a:rPr b="1" lang="en-US" sz="3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 The Tide Tur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EF6BDFF5-C1E8-81A5-92FFFD5E3A71BECC"/>
          <p:cNvPicPr/>
          <p:nvPr/>
        </p:nvPicPr>
        <p:blipFill>
          <a:blip r:embed="rId1"/>
          <a:stretch/>
        </p:blipFill>
        <p:spPr>
          <a:xfrm>
            <a:off x="1371600" y="102888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hase – Tide Turns for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mid 1758 – British regulars and colonial militias were seizing one French stronghold aft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1758 - British took Ft. Duquesne without a fight – renamed it Ft P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Louisburg – Gen. Jeffrey Amherst and James Wolfe captured the French for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Ticonderoga, Niagara – British vi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4"/>
          <p:cNvSpPr txBox="1"/>
          <p:nvPr/>
        </p:nvSpPr>
        <p:spPr>
          <a:xfrm>
            <a:off x="1905120" y="1219320"/>
            <a:ext cx="54864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3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3366"/>
                  </a:outerShdw>
                </a:effectLst>
                <a:latin typeface="Hot Pizza"/>
              </a:rPr>
              <a:t>Was 1763 </a:t>
            </a:r>
            <a:endParaRPr b="0" lang="en-US" sz="1800" spc="1" strike="noStrike">
              <a:ln w="19080">
                <a:solidFill>
                  <a:srgbClr val="fffff3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3366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3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3366"/>
                  </a:outerShdw>
                </a:effectLst>
                <a:latin typeface="Hot Pizza"/>
              </a:rPr>
              <a:t>a "turning point" </a:t>
            </a:r>
            <a:endParaRPr b="0" lang="en-US" sz="1800" spc="1" strike="noStrike">
              <a:ln w="19080">
                <a:solidFill>
                  <a:srgbClr val="fffff3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3366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3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3366"/>
                  </a:outerShdw>
                </a:effectLst>
                <a:latin typeface="Hot Pizza"/>
              </a:rPr>
              <a:t>in British-colonial</a:t>
            </a:r>
            <a:endParaRPr b="0" lang="en-US" sz="1800" spc="1" strike="noStrike">
              <a:ln w="19080">
                <a:solidFill>
                  <a:srgbClr val="fffff3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3366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3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3366"/>
                  </a:outerShdw>
                </a:effectLst>
                <a:latin typeface="Hot Pizza"/>
              </a:rPr>
              <a:t>relationships???</a:t>
            </a:r>
            <a:endParaRPr b="0" lang="en-US" sz="1800" spc="1" strike="noStrike">
              <a:ln w="19080">
                <a:solidFill>
                  <a:srgbClr val="fffff3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3366"/>
                </a:outerShdw>
              </a:effectLst>
              <a:latin typeface="Hot Pizza"/>
              <a:ea typeface="Hot Pizz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ege of Queb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nch pin of French Control 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James Wolfe – Brit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ed his troops up a n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fended path (hidden ravine) just outs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Louis Montca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woke to see @4000 British tr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rounding 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c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454c6"/>
                </a:solidFill>
                <a:latin typeface="Arial"/>
              </a:rPr>
              <a:t>- City eventually fell, Sept. 13, 1759, after only 30 minutes of f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c6"/>
                </a:solidFill>
                <a:latin typeface="Arial"/>
              </a:rPr>
              <a:t>One year later – French formally surrendered to Amherst at Montre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EF6BDFE5-A14B-9039-B8FF933B6B94638D"/>
          <p:cNvPicPr/>
          <p:nvPr/>
        </p:nvPicPr>
        <p:blipFill>
          <a:blip r:embed="rId1"/>
          <a:stretch/>
        </p:blipFill>
        <p:spPr>
          <a:xfrm>
            <a:off x="1219320" y="118116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8"/>
          <p:cNvSpPr/>
          <p:nvPr/>
        </p:nvSpPr>
        <p:spPr>
          <a:xfrm>
            <a:off x="1447920" y="1676520"/>
            <a:ext cx="6629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France --&gt;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st her Canadian possessions, most of her empire in India, some of her West Indian islands, and claims to lands east of the Mississippi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447920" y="3246480"/>
            <a:ext cx="6400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Comic Sans MS"/>
              </a:rPr>
              <a:t>Spain --&gt;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t all French lands west of the Mississippi River, New Orleans, Cuba, but lost Florida to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447920" y="4772160"/>
            <a:ext cx="6476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ngland --&gt;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land east of M. River, Florida,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t all French lands in Canada, exclusive rights to Caribbean slave trade, and commercial dominan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In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1447920" y="228600"/>
            <a:ext cx="632448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63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Treaty of P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French&amp;IndianWar-1763"/>
          <p:cNvPicPr/>
          <p:nvPr/>
        </p:nvPicPr>
        <p:blipFill>
          <a:blip r:embed="rId1"/>
          <a:stretch/>
        </p:blipFill>
        <p:spPr>
          <a:xfrm>
            <a:off x="1676520" y="990720"/>
            <a:ext cx="5867280" cy="54673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19" name="Text Box 10"/>
          <p:cNvSpPr/>
          <p:nvPr/>
        </p:nvSpPr>
        <p:spPr>
          <a:xfrm>
            <a:off x="1447920" y="152280"/>
            <a:ext cx="632448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North America in 17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1676520" y="1828800"/>
            <a:ext cx="6324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united them against 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common enemy for the fir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676520" y="3505320"/>
            <a:ext cx="5790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It created bitter feeling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towards the British tha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would only intens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Effects of the War on the American Colon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1523880" y="1828800"/>
            <a:ext cx="63248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It increased her colonial empire in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the Americ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523880" y="3124080"/>
            <a:ext cx="6172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It greatly enlarged England’s deb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4419720" y="3657600"/>
            <a:ext cx="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371600" y="4419720"/>
            <a:ext cx="64771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Therefore, England felt that a</a:t>
            </a:r>
            <a:br>
              <a:rPr sz="2300"/>
            </a:br>
            <a:r>
              <a:rPr b="1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major reorganization of her </a:t>
            </a:r>
            <a:br>
              <a:rPr sz="2300"/>
            </a:br>
            <a:r>
              <a:rPr b="1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American Empire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was necessary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Effects of the War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on Bri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752480" y="1981080"/>
            <a:ext cx="5943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1763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ntiac’s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Pontiac"/>
          <p:cNvPicPr/>
          <p:nvPr/>
        </p:nvPicPr>
        <p:blipFill>
          <a:blip r:embed="rId1"/>
          <a:stretch/>
        </p:blipFill>
        <p:spPr>
          <a:xfrm>
            <a:off x="1712880" y="3048120"/>
            <a:ext cx="2173320" cy="24066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30" name="Picture 5" descr="FortDetroit"/>
          <p:cNvPicPr/>
          <p:nvPr/>
        </p:nvPicPr>
        <p:blipFill>
          <a:blip r:embed="rId2"/>
          <a:stretch/>
        </p:blipFill>
        <p:spPr>
          <a:xfrm>
            <a:off x="4191120" y="3305160"/>
            <a:ext cx="3429000" cy="14954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Text Box 6"/>
          <p:cNvSpPr/>
          <p:nvPr/>
        </p:nvSpPr>
        <p:spPr>
          <a:xfrm>
            <a:off x="4495680" y="4800600"/>
            <a:ext cx="304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t Detro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676520" y="571500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itish “gifts” of smallpox-infected blankets from Fort Pi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447920" y="228600"/>
            <a:ext cx="632448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The Aftermath:  Tensions Along the Fronti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0" descr="map-Pontiac's Rebellion-1763"/>
          <p:cNvPicPr/>
          <p:nvPr/>
        </p:nvPicPr>
        <p:blipFill>
          <a:blip r:embed="rId1"/>
          <a:stretch/>
        </p:blipFill>
        <p:spPr>
          <a:xfrm>
            <a:off x="1981080" y="1219320"/>
            <a:ext cx="5257800" cy="52578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5" name="Text Box 12"/>
          <p:cNvSpPr/>
          <p:nvPr/>
        </p:nvSpPr>
        <p:spPr>
          <a:xfrm>
            <a:off x="1295280" y="228600"/>
            <a:ext cx="6629400" cy="6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Pontiac’s Rebellion (176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1676520" y="106668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ritis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clam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Line of 176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752480" y="5943600"/>
            <a:ext cx="563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olonial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xton Boys (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ap-Pontiac'sRebellion"/>
          <p:cNvPicPr/>
          <p:nvPr/>
        </p:nvPicPr>
        <p:blipFill>
          <a:blip r:embed="rId1"/>
          <a:srcRect l="2498" t="6647" r="2498" b="6647"/>
          <a:stretch/>
        </p:blipFill>
        <p:spPr>
          <a:xfrm>
            <a:off x="1676520" y="2286000"/>
            <a:ext cx="5790960" cy="3352680"/>
          </a:xfrm>
          <a:prstGeom prst="rect">
            <a:avLst/>
          </a:prstGeom>
          <a:ln w="0">
            <a:noFill/>
          </a:ln>
        </p:spPr>
      </p:pic>
      <p:sp>
        <p:nvSpPr>
          <p:cNvPr id="139" name="Line 11"/>
          <p:cNvSpPr/>
          <p:nvPr/>
        </p:nvSpPr>
        <p:spPr>
          <a:xfrm>
            <a:off x="5257800" y="2057400"/>
            <a:ext cx="304920" cy="1523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5715000" y="2133720"/>
            <a:ext cx="83808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1447920" y="152280"/>
            <a:ext cx="632448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Rockwell"/>
              </a:rPr>
              <a:t>BACKLAS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1676520" y="1247760"/>
            <a:ext cx="58388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Br. Gvt. measures to prevent smuggl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743200" y="2774880"/>
            <a:ext cx="510552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68120" indent="-168120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James Otis’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rotection of a citizen’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private property must b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held in higher regard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an a parliamentary  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tatu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057400" y="2241720"/>
            <a:ext cx="57150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761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writs of assis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743200" y="5346720"/>
            <a:ext cx="51814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51000" indent="-351000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e lost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parliamentary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aw and custom had equal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eigh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447920" y="228600"/>
            <a:ext cx="6324480" cy="6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Rethinking Their Emp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NoAmer-1750"/>
          <p:cNvPicPr/>
          <p:nvPr/>
        </p:nvPicPr>
        <p:blipFill>
          <a:blip r:embed="rId1"/>
          <a:stretch/>
        </p:blipFill>
        <p:spPr>
          <a:xfrm>
            <a:off x="1600200" y="1114560"/>
            <a:ext cx="6019920" cy="55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Text Box 14"/>
          <p:cNvSpPr/>
          <p:nvPr/>
        </p:nvSpPr>
        <p:spPr>
          <a:xfrm>
            <a:off x="1676520" y="228600"/>
            <a:ext cx="601956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North America in 17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"/>
          <p:cNvSpPr/>
          <p:nvPr/>
        </p:nvSpPr>
        <p:spPr>
          <a:xfrm>
            <a:off x="1905120" y="2133720"/>
            <a:ext cx="5181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Sugar Act - 17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905120" y="3230640"/>
            <a:ext cx="5638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Currency Act - 17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905120" y="5410080"/>
            <a:ext cx="5943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Stamp Act - 17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905120" y="4297320"/>
            <a:ext cx="6019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Quartering Act - 17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George Grenville’s Program, 1763-17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600200" y="169056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al Wh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600200" y="2482920"/>
            <a:ext cx="71629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Q-&gt;</a:t>
            </a:r>
            <a:r>
              <a:rPr b="1" lang="en-US" sz="23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hat was the extent of Parliament’s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authority over the colonies?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3124080" y="3457440"/>
            <a:ext cx="91440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334120" y="3457440"/>
            <a:ext cx="83808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286000" y="3914640"/>
            <a:ext cx="20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Absolut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4419720" y="3914640"/>
            <a:ext cx="3733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OR       </a:t>
            </a: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Limited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600200" y="4829040"/>
            <a:ext cx="609588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Q-&gt;</a:t>
            </a:r>
            <a:r>
              <a:rPr b="1" lang="en-US" sz="23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How could the colonies give or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withhold consent for parliamentary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legislation when they did not have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representation in that body?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447920" y="7632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Theories of Re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1905120" y="1143000"/>
            <a:ext cx="4419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oyal Nine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17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905120" y="1995480"/>
            <a:ext cx="601956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ons of Libert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gan in NYC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muel                                                              Ad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SonsOfLiberty"/>
          <p:cNvPicPr/>
          <p:nvPr/>
        </p:nvPicPr>
        <p:blipFill>
          <a:blip r:embed="rId1">
            <a:lum contrast="6000"/>
          </a:blip>
          <a:srcRect l="2862" t="3070" r="5710" b="29511"/>
          <a:stretch/>
        </p:blipFill>
        <p:spPr>
          <a:xfrm>
            <a:off x="3733920" y="2814480"/>
            <a:ext cx="2666880" cy="18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63" name="Text Box 12"/>
          <p:cNvSpPr/>
          <p:nvPr/>
        </p:nvSpPr>
        <p:spPr>
          <a:xfrm>
            <a:off x="1828800" y="4861080"/>
            <a:ext cx="601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tamp Act Congress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 1765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mp Act Reso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1828800" y="6049800"/>
            <a:ext cx="4876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eclaratory A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 17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1447920" y="152280"/>
            <a:ext cx="632448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Rockwell"/>
              </a:rPr>
              <a:t>Stamp Act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1447920" y="1461960"/>
            <a:ext cx="6858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767</a:t>
            </a:r>
            <a:r>
              <a:rPr b="1" lang="en-US" sz="23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William Pitt, P. M. &amp; Charles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     Townshend, Secretary of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     the Exchequ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752480" y="2666880"/>
            <a:ext cx="60199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333399"/>
              </a:buClr>
              <a:buSzPct val="7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hift from paying taxes for Br. war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debts &amp; quartering of troops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paying col. govt. salari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752480" y="3886200"/>
            <a:ext cx="60199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333399"/>
              </a:buClr>
              <a:buSzPct val="7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He diverted revenue collection from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internal to  external trad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752480" y="4724280"/>
            <a:ext cx="64008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333399"/>
              </a:buClr>
              <a:buSzPct val="7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Tax these imports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paper, paint,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                      lead, glass, te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752480" y="5562720"/>
            <a:ext cx="60199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333399"/>
              </a:buClr>
              <a:buSzPct val="7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crease custom officials at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American ports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established a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Board of Customs in Bost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1447920" y="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Townshend Duties Crisis:  1767-17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614600" y="1523880"/>
            <a:ext cx="71485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John Dickinson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1768</a:t>
            </a:r>
            <a:br>
              <a:rPr sz="2600"/>
            </a:br>
            <a:r>
              <a:rPr b="1" lang="en-US" sz="2600" spc="-1" strike="noStrike">
                <a:solidFill>
                  <a:srgbClr val="80808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etters from a Farmer in</a:t>
            </a:r>
            <a:br>
              <a:rPr sz="2600"/>
            </a:b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          Pennsylvania</a:t>
            </a: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600200" y="2895480"/>
            <a:ext cx="6095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1768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2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non-importation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movemen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“Daughters of Liberty”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spinning b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600200" y="4632480"/>
            <a:ext cx="609588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Riots against customs agent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John Hancock’s ship,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Libert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4000 British troops sen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to Bost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447920" y="7632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Colonial Response to the Townshend Du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3048120" y="571500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patriots!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WordArt 6"/>
          <p:cNvSpPr txBox="1"/>
          <p:nvPr/>
        </p:nvSpPr>
        <p:spPr>
          <a:xfrm>
            <a:off x="1600200" y="609480"/>
            <a:ext cx="60958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ot Pizza"/>
              </a:rPr>
              <a:t>For the first time,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ot Pizza"/>
              </a:rPr>
              <a:t>many colonists began calling people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ot Pizza"/>
              </a:rPr>
              <a:t>who joined the non-importation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ot Pizza"/>
              </a:rPr>
              <a:t>movement,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ot Pizza"/>
              <a:ea typeface="Hot Pizza"/>
            </a:endParaRPr>
          </a:p>
        </p:txBody>
      </p: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6996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and Britis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 Cla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alle claimed M. Riv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18 – Established New Orl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: Royal charters gave 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itish c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h of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ered Native American life,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y trading with the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ruption of Relations am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.A. nations – Europeans pitted tribes against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lict ov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 wars in N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area since early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 not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Colonial wars between France &amp;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Willia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 Ann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Georg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and Indian War (7 year’s 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nch and Native Americ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nquins, Delaware, Huron, Ottowa, Shawnee, Len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ish and Native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quois Le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 Disp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alachian Mts. – M. 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at Lakes to G. of Me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gious Id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otestant v. Catho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  Native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ed Europeans to stop coming on their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23880" y="1600200"/>
            <a:ext cx="632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n Frankli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representatives fro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New England, NY, MD,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Join_Or_Die-Franklin-snake"/>
          <p:cNvPicPr/>
          <p:nvPr/>
        </p:nvPicPr>
        <p:blipFill>
          <a:blip r:embed="rId1">
            <a:lum contrast="18000"/>
          </a:blip>
          <a:srcRect l="4163" t="3024" r="2087" b="3395"/>
          <a:stretch/>
        </p:blipFill>
        <p:spPr>
          <a:xfrm>
            <a:off x="2819520" y="2362320"/>
            <a:ext cx="342900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371600" y="4572000"/>
            <a:ext cx="647712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Plan for defense and recruit Iroquois as all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Albany Congres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failed due to fact that Parliament and colonial legislatures were afraid of los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152280"/>
            <a:ext cx="624852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54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Albany Plan of Un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06:17:19Z</dcterms:created>
  <dc:creator>Susan M. Pojer</dc:creator>
  <dc:description/>
  <dc:language>en-US</dc:language>
  <cp:lastModifiedBy>dmcnamar</cp:lastModifiedBy>
  <cp:lastPrinted>2007-08-10T05:31:50Z</cp:lastPrinted>
  <dcterms:modified xsi:type="dcterms:W3CDTF">2011-09-19T14:18:32Z</dcterms:modified>
  <cp:revision>106</cp:revision>
  <dc:subject/>
  <dc:title>The French-Indian War</dc:title>
</cp:coreProperties>
</file>